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04AA-5023-400F-A280-A4353C10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774-3263-4399-82A9-9551FAB7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CA0-6B4A-4CBB-9963-1718913E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BD8-6726-47A6-8779-AB48DA6C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EC5-292B-46DB-B684-70F8B82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936-AA79-44B1-848A-94E5BE2E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DE6-D507-447D-822F-AA9AADE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805-13DA-497D-B918-A24F83A0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BE1-42DD-456A-9C37-5CE7B4F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A46-5866-44CF-99E1-9CD9D5C4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48B-7B1B-4472-9338-95EEB77E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C15-D56D-4EDA-82BA-F7A19AE6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9158-CF65-49A2-9F9D-D6FE7C2CA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равнительная характеристика Обломова и Мани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Мечты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75212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о собственном благоустройстве, размышления о человечестве и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жаления о бесцельной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175212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предается мечтам, бесплодным и фантастическим, которые никогда не сможет осуществить, так как всякий труд, любая деятельность ему чуж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чтает о том, как хорошо бы построить через пруд каменный мост или от дома повести подземный 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й 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а помещики, оба не любят заниматься хозяйством, вести приходные книги, у обоих родовые имения находятся в запустении (деревни Маниловка и Обломов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обоих героев - «отсутствие всякой определенной идеи, всякой сосредоточенно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голь характеризует Манилова как отрицательного персонажа: «мёртвая душа», за «сладостью» скрывается безразличие и даже жесток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 в изображении Гончарова не мнимо (как Манилов), а действительно приятный, и действительно добрый, мягкий, откровенный и сердечный человек. И он вызывает в окружающих людях совсем иные (чем Манилов) чув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Общие вывод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омов,  несомненно,  и   гораздо   умнее Манилова, и совершенно лишен той  восторженности  и  слащавости,  которые  в Манилове преоблада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м Обломова станет смерть. Вечный покой, вечная тишина и ленивое «переползанье» изо дня в день тихо остановили машину его жизн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уя выражение Белинского, можно сказать, что Манилов- «старший брат» Обломова, в котором эта помещичья лень достигла крайней степ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omposition/get/coid/00277031253376808705/woid/000126011847730696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litra.ru/characters/get/chid/00708531190817804854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8911591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tvet.mail.ru/question/47631457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oblomov.omsk.edu/koi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. В. Гоголь «Мёртвые душ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. А. Гончаров «Облом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ь характер Манилова («Мертвые души» Гоголь) и характер Обломова («Обломов» Гончар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сходства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йти различия в характерах геро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Внешност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9810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т 32-33 от р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го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ятной на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тёмно-сер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 с отсутствием всякой определённой идеи, всякой сосредоточенности в чертах 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вет лица «безразлич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7960" y="19810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ты лица – прият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ок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голубыми глаз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адость» в лице и глаз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6" descr="im16.jpg"/>
          <p:cNvPicPr/>
          <p:nvPr/>
        </p:nvPicPr>
        <p:blipFill>
          <a:blip r:embed="rId1"/>
          <a:stretch/>
        </p:blipFill>
        <p:spPr>
          <a:xfrm>
            <a:off x="990720" y="762120"/>
            <a:ext cx="3504960" cy="47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" name="Рисунок 7" descr="3288_original.gif"/>
          <p:cNvPicPr/>
          <p:nvPr/>
        </p:nvPicPr>
        <p:blipFill>
          <a:blip r:embed="rId2"/>
          <a:stretch/>
        </p:blipFill>
        <p:spPr>
          <a:xfrm>
            <a:off x="4724280" y="1523880"/>
            <a:ext cx="3811680" cy="2971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TextBox 8"/>
          <p:cNvSpPr/>
          <p:nvPr/>
        </p:nvSpPr>
        <p:spPr>
          <a:xfrm>
            <a:off x="20574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и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9588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Характер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828440"/>
            <a:ext cx="40402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Ленив, любит «поваляться» и посп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ервативен во вкусах и взгляд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чтател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занимается хозяйство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лавное для него – покой, не терпит суе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 любит заниматься дела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с друзья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призен, может вспыл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«ни то, ни сё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ружелюбен «до тошнот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От него не дождешься никакого живого сл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ого думает, мало говори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озяйство идет «само собо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коен, умиротворен, мяг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Сахарное» удовольств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о всех хорошего мнения, всем старается угоди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Занимаемая долж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76520"/>
            <a:ext cx="4040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ворянин родом, коллежский секретарь чином, безвыездно живет двенадцатый год в Петербург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Гороховой улице, в одном из больших домо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наследству досталась деревн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990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мещ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нат, двое детей (жена – под стать муж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вет в 16 верстах от уездного гор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еревне Манилов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личие слуг у героев и ведение хозя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057040"/>
            <a:ext cx="4040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уга З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ревня ( всем заправляет староста, хозяин ничего не знает о доходах и расход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7960" y="2057040"/>
            <a:ext cx="40417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Хозяйство идет само собой»: помещик не знает о судьбе своих крестьян (приказч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рестьяне живут в нищете, в доме царит беспоряд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рузья и светская жизнь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ло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лков, Судьбинский, Пенкин; Алексеев Иван Алексеевич, Михей Андреевич Тарантьев, Андрей Иванович Штольц («человек действия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любит выезжать из дома, «не подъём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914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нил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160"/>
            <a:ext cx="4041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новники уездного города, помещики (Ноздрев, Собакевич и т. 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почитает домашний уют, но не против поехать в город, в г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наговаривает на друз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Admin</cp:lastModifiedBy>
  <dcterms:modified xsi:type="dcterms:W3CDTF">2013-05-07T14:45:05Z</dcterms:modified>
  <cp:revision>12</cp:revision>
  <dc:subject/>
  <dc:title>Название презентации</dc:title>
</cp:coreProperties>
</file>